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0.pct" ContentType="image/x-pict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C462-090F-4AEB-A6C7-C24360673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group may not describe the same domain in the same way.  GO “part_of” can mean 2 different things.  Add more to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ict regi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4D79-305C-4BF7-AA9C-1E08FA131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12 CTSAs were awarded in 2006 to 12 academic health centers located throughout the nation.  When fully implemented in 2012, the initiative is expected to provide a total of about $500 million annually to 60 academic health centers. An additional 52 academic health centers received planning grants, in 2006, to help them prepare applications to join the consort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abling infra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DAE-4BFD-40DA-A7A5-5E8AC24C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27C-F344-4CBD-8FE0-B42D302F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155B-0622-4BA2-B8CF-4CE1ECE0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927-C021-4750-B3B1-3453CC12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400-7032-4D9A-B758-E7D4E9F6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1A2B-FD76-450B-841A-DF0BFA0C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983-4630-42F5-9EAB-46ED8185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182-F278-4A66-A726-794EA6DC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42B-1740-4E4E-BE72-357FEF9A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D2A-13C5-4C6F-90C6-2B77FCD5D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7E71-9FD2-4BA2-9DA4-EB2DA43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FDC-01A9-495E-914F-967CD4E7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5688-CAFC-4CA2-92E9-FA2C45305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1.pn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1.png"/><Relationship Id="rId10" Type="http://schemas.openxmlformats.org/officeDocument/2006/relationships/image" Target="../media/image6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tology for Clinical Investigations (OCI): Representation of clinical research data in the framework of a formal biomedical investigation ontolog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87440" y="4214520"/>
            <a:ext cx="64008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chard H. Scheuer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.T. Southwestern Medical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ed for standard represen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1320"/>
            <a:ext cx="77724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information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vocabularies/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data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923200" y="155520"/>
            <a:ext cx="32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“Ontolog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1120" y="1316160"/>
            <a:ext cx="8321760" cy="42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ilosoph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udy of that which exists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cience of what is: of the kinds and structures of the objects, and their properties and relations in every area of reality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/computer scient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hared, common, backbone taxonomy of relevant entities, and the relationships between them, within an application domain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mputable representation of biological reality” (ISMB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tructured vocabula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 formal way of representing knowledge in which concepts are described both by their meaning and their relationship to each other” (Bard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data model that represents a domain and is used to reason about the objects in that domain and the relations between them” (Wikipe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04920" y="1440000"/>
            <a:ext cx="85341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clear thinking about how to structur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data integration, modeling, query processing, user interface development, data exchange/ex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force data correct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be able to map to database management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ables a computer to reason over the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provide the capability to infer relationships that have not been explicitly 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30800" y="11736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228400" y="117360"/>
            <a:ext cx="46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existing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019240"/>
            <a:ext cx="8534160" cy="28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lapping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within a vacu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operability – ontologies should be able to work together and be used by other 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ontologies do not deal well with time and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well-defined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widespread use and accep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t based on varying princip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rcRect l="0" t="0" r="329" b="4262"/>
          <a:stretch/>
        </p:blipFill>
        <p:spPr>
          <a:xfrm>
            <a:off x="985680" y="1549440"/>
            <a:ext cx="7172640" cy="5167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13240" y="104760"/>
            <a:ext cx="751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ng ontology principles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OBO Foundry -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8120" y="687240"/>
            <a:ext cx="880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BO foundry is a set of interoperable ontologies that adhere to a growing set of principles set forth for best practices in ontology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The OBO Found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120" y="2590920"/>
            <a:ext cx="80773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oluntary initiative of developers of consensus biomedical ontolo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be interoperable, logically coherent, biologically accurate and subject to update in light of scientific ad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BAC5-1BFC-49F4-AFFC-953B75DDF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3385" t="18448" r="6298" b="13934"/>
          <a:stretch/>
        </p:blipFill>
        <p:spPr>
          <a:xfrm>
            <a:off x="0" y="906480"/>
            <a:ext cx="9144000" cy="5133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3445200" y="185760"/>
            <a:ext cx="267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OBO Found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2620-CD49-4710-8082-22796AFAB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"/>
          <p:cNvSpPr/>
          <p:nvPr/>
        </p:nvSpPr>
        <p:spPr>
          <a:xfrm>
            <a:off x="2419200" y="22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"/>
          <p:cNvSpPr/>
          <p:nvPr/>
        </p:nvSpPr>
        <p:spPr>
          <a:xfrm>
            <a:off x="2419200" y="22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8"/>
          <p:cNvSpPr/>
          <p:nvPr/>
        </p:nvSpPr>
        <p:spPr>
          <a:xfrm>
            <a:off x="317520" y="330120"/>
            <a:ext cx="1905120" cy="1524240"/>
          </a:xfrm>
          <a:prstGeom prst="line">
            <a:avLst/>
          </a:prstGeom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04920" y="304920"/>
          <a:ext cx="8534160" cy="5321160"/>
        </p:xfrm>
        <a:graphic>
          <a:graphicData uri="http://schemas.openxmlformats.org/drawingml/2006/table">
            <a:tbl>
              <a:tblPr/>
              <a:tblGrid>
                <a:gridCol w="1908000"/>
                <a:gridCol w="1216080"/>
                <a:gridCol w="1143000"/>
                <a:gridCol w="1295280"/>
                <a:gridCol w="1300320"/>
                <a:gridCol w="1671480"/>
              </a:tblGrid>
              <a:tr h="592560">
                <a:tc rowSpan="2">
                  <a:txBody>
                    <a:bodyPr lIns="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    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TO TIM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GRANULA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gridSpan="4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CONTINU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OCCURR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1368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156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IN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DEPEND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124344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ORGAN 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ORG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Organis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NC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Taxonomy / placehold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Anatomical Ent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FMA, CA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Org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placehold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Phenotypic Quality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PaT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row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Biological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CELL AND CELLULAR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e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C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ellular Compon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FMA, 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Cellular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5760">
                      <a:solidFill>
                        <a:srgbClr val="cc33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48160"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Arial"/>
                        </a:rPr>
                        <a:t>MOLEC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olec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ChEBI, SO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RnaO, Pr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olecular Fun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576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Molecular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Times New Roman"/>
                        </a:rPr>
                        <a:t>(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cc3300"/>
                      </a:solidFill>
                    </a:lnL>
                    <a:lnR w="13680">
                      <a:solidFill>
                        <a:srgbClr val="cc3300"/>
                      </a:solidFill>
                    </a:lnR>
                    <a:lnT w="5760">
                      <a:solidFill>
                        <a:srgbClr val="cc3300"/>
                      </a:solidFill>
                    </a:lnT>
                    <a:lnB w="1368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39"/>
          <p:cNvSpPr/>
          <p:nvPr/>
        </p:nvSpPr>
        <p:spPr>
          <a:xfrm>
            <a:off x="0" y="5824440"/>
            <a:ext cx="9144000" cy="10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Initial OBO Foundry Ont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3300"/>
                </a:solidFill>
                <a:latin typeface="Arial"/>
              </a:rPr>
              <a:t>building out from the original 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969D-C7BA-4FEA-839F-2C8477FA1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Mature OBO Foundry ontologies (now undergoing refor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6360" y="281916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Ontology (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mical Entities of Biological Interest (ChE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ational Model of Anatomy (F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ne Ontology (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henotypic Quality Ontology (P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 Ontology (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ce Ontology (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E21B-4D43-424E-8B3A-B18FFC0E3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6104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Ontologies being built to satisfy Foundry principles </a:t>
            </a:r>
            <a:r>
              <a:rPr b="0" i="1" lang="en-US" sz="3600" spc="-1" strike="noStrike">
                <a:solidFill>
                  <a:srgbClr val="c00000"/>
                </a:solidFill>
                <a:latin typeface="Arial"/>
              </a:rPr>
              <a:t>ab init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2895120"/>
            <a:ext cx="7391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Anatomy Reference Ontology (CA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Ontology (EnvO / GE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for Biomedical Investigations (O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tology for Clinical Investigations (OCI, part of O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 Ontology (P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NA Ontology (Rna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 - C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es and OBO Found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for Biomedical Investigations (OB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for Clinical Investigations (O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5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3035-81F5-4D3B-AF98-10B54BEC4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Foundry ontologies all work in the same 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240" y="3047760"/>
            <a:ext cx="84582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make this data available for semantic search and algorithmic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reate a consensus-based ontology for annotating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nsure that it can interoperate with Foundry ontologies for neighboring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4"/>
          <p:cNvSpPr/>
          <p:nvPr/>
        </p:nvSpPr>
        <p:spPr>
          <a:xfrm>
            <a:off x="5334120" y="5181480"/>
            <a:ext cx="380988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1752480"/>
            <a:ext cx="8381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Arial"/>
              </a:rPr>
              <a:t>OBO Foundry provides a suite of basic science Reference Ont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304776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to serve as modules for re-use in Application Ontologie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ious Disease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unology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Sclerosis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42920" indent="-69192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mmalian Adult Neurogenesis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8610480" y="6400800"/>
            <a:ext cx="533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DDEF-FC9D-40DB-A792-994FF05A0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440" y="1356840"/>
            <a:ext cx="901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f1b45"/>
                </a:solidFill>
                <a:latin typeface="Trebuchet MS"/>
              </a:rPr>
              <a:t>Ontology for BioMedical Investigations</a:t>
            </a:r>
            <a:br>
              <a:rPr sz="3600"/>
            </a:br>
            <a:r>
              <a:rPr b="0" lang="en-GB" sz="3600" spc="-1" strike="noStrike">
                <a:solidFill>
                  <a:srgbClr val="af1b45"/>
                </a:solidFill>
                <a:latin typeface="Trebuchet MS"/>
              </a:rPr>
              <a:t>OBI</a:t>
            </a:r>
            <a:br>
              <a:rPr sz="3600"/>
            </a:br>
            <a:br>
              <a:rPr sz="400"/>
            </a:br>
            <a:r>
              <a:rPr b="0" lang="en-GB" sz="3600" spc="-1" strike="noStrike">
                <a:solidFill>
                  <a:srgbClr val="af1b45"/>
                </a:solidFill>
                <a:latin typeface="Trebuchet MS"/>
              </a:rPr>
              <a:t>(previously FuG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4880" y="3000240"/>
            <a:ext cx="8337600" cy="0"/>
          </a:xfrm>
          <a:prstGeom prst="line">
            <a:avLst/>
          </a:prstGeom>
          <a:ln w="28440">
            <a:solidFill>
              <a:srgbClr val="1579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20680" y="3549600"/>
            <a:ext cx="6356520" cy="17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rebuchet MS"/>
                <a:ea typeface="Arial"/>
              </a:rPr>
              <a:t>Name of the presenter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On behalf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af1b45"/>
                </a:solidFill>
                <a:latin typeface="Trebuchet MS"/>
                <a:ea typeface="Times New Roman"/>
              </a:rPr>
              <a:t>OBI </a:t>
            </a:r>
            <a:r>
              <a:rPr b="1" lang="en-US" sz="2800" spc="-1" strike="noStrike">
                <a:solidFill>
                  <a:srgbClr val="af1b45"/>
                </a:solidFill>
                <a:latin typeface="Trebuchet MS"/>
                <a:ea typeface="굴림"/>
              </a:rPr>
              <a:t>Coordination Committe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6413400"/>
            <a:ext cx="8877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15792a"/>
                </a:solidFill>
                <a:latin typeface="Trebuchet MS"/>
                <a:ea typeface="Times New Roman"/>
              </a:rPr>
              <a:t>Name of the meeting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88920"/>
            <a:ext cx="83818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af1b45"/>
                </a:solidFill>
                <a:latin typeface="Trebuchet MS"/>
              </a:rPr>
              <a:t>OBI -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844560"/>
            <a:ext cx="9144000" cy="38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8000"/>
          </a:bodyPr>
          <a:p>
            <a:pPr marL="129240" indent="-129240">
              <a:lnSpc>
                <a:spcPct val="10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 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</a:rPr>
              <a:t>International collaboration (since 200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Communities developing ontologies/termi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nambiguous description of how the investigation was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onsistent annotation, powerful queries and data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29240" indent="-129240"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Describe the laboratory work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Set of 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  <a:ea typeface="굴림"/>
              </a:rPr>
              <a:t>universal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- Investigation (organization, intent, design et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Material (biological and chemical, manipulation and transform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- Protocols and instru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Data generated and types of analysis performed 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Set of biological and technological </a:t>
            </a:r>
            <a:r>
              <a:rPr b="0" lang="en-US" sz="2000" spc="-1" strike="noStrike">
                <a:solidFill>
                  <a:srgbClr val="333399"/>
                </a:solidFill>
                <a:latin typeface="Trebuchet MS"/>
                <a:ea typeface="굴림"/>
              </a:rPr>
              <a:t>domain-specific terms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rebuchet MS"/>
                <a:ea typeface="굴림"/>
              </a:rPr>
              <a:t>- To meet the annotation requirements of any given commun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129240" indent="-129240">
              <a:lnSpc>
                <a:spcPct val="90000"/>
              </a:lnSpc>
              <a:spcBef>
                <a:spcPts val="550"/>
              </a:spcBef>
              <a:buClr>
                <a:srgbClr val="af1b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Part of the Open Biomedical Ontology (</a:t>
            </a:r>
            <a:r>
              <a:rPr b="1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OBO</a:t>
            </a:r>
            <a:r>
              <a:rPr b="0" lang="en-US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) Found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Orthogonality and x-referencing with existing bio-ont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258840" indent="691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'Interoperable by construction'</a:t>
            </a:r>
            <a:r>
              <a:rPr b="0" lang="en-GB" sz="2200" spc="-1" strike="noStrike">
                <a:solidFill>
                  <a:srgbClr val="af1b45"/>
                </a:solidFill>
                <a:latin typeface="Trebuchet MS"/>
                <a:ea typeface="굴림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굴림"/>
              </a:rPr>
              <a:t>with those under the Found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7160" indent="-687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굴림"/>
              </a:rPr>
              <a:t>- Including Unit, Quality (PATO), Environment and Chemical (ChEBI)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162160" y="3124080"/>
            <a:ext cx="1504800" cy="2095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347184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4" name=""/>
          <p:cNvGrpSpPr/>
          <p:nvPr/>
        </p:nvGrpSpPr>
        <p:grpSpPr>
          <a:xfrm>
            <a:off x="168120" y="3429000"/>
            <a:ext cx="1874520" cy="1981080"/>
            <a:chOff x="168120" y="3429000"/>
            <a:chExt cx="1874520" cy="1981080"/>
          </a:xfrm>
        </p:grpSpPr>
        <p:grpSp>
          <p:nvGrpSpPr>
            <p:cNvPr id="55" name=""/>
            <p:cNvGrpSpPr/>
            <p:nvPr/>
          </p:nvGrpSpPr>
          <p:grpSpPr>
            <a:xfrm>
              <a:off x="168120" y="3429000"/>
              <a:ext cx="1874520" cy="1981080"/>
              <a:chOff x="168120" y="3429000"/>
              <a:chExt cx="1874520" cy="1981080"/>
            </a:xfrm>
          </p:grpSpPr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68120" y="3429000"/>
                <a:ext cx="1874520" cy="198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259920" y="3486960"/>
                <a:ext cx="1584360" cy="1748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7560" y="3486960"/>
                <a:ext cx="1582560" cy="17481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9" name="" descr=""/>
            <p:cNvPicPr/>
            <p:nvPr/>
          </p:nvPicPr>
          <p:blipFill>
            <a:blip r:embed="rId5"/>
            <a:stretch/>
          </p:blipFill>
          <p:spPr>
            <a:xfrm>
              <a:off x="277560" y="3486960"/>
              <a:ext cx="1582560" cy="174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317600" y="5121360"/>
            <a:ext cx="2666880" cy="1646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7440" y="312480"/>
            <a:ext cx="8709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nical and Translational Science Award (CT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2133720" y="3146400"/>
            <a:ext cx="1304640" cy="1882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57600" y="144792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ing biomedical discoveries made in the last 10 years demands an evolution of clinical sc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prevention strategies and treatments must be developed, tested, and brought into medical practice more rapid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SA awards will lower barriers between disciplines, and encourage creative, innovative approaches to solve complex medical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9640" indent="-392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se clinical and translational science awards will catalyze change -- breaking silos, breaking barriers, and breaking conven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1295280" y="5029200"/>
            <a:ext cx="2308320" cy="1539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9"/>
          <a:stretch/>
        </p:blipFill>
        <p:spPr>
          <a:xfrm>
            <a:off x="228600" y="1592280"/>
            <a:ext cx="2971800" cy="1946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0"/>
          <a:stretch/>
        </p:blipFill>
        <p:spPr>
          <a:xfrm>
            <a:off x="357120" y="1523880"/>
            <a:ext cx="2414520" cy="177480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_s7172"/>
          <p:cNvSpPr/>
          <p:nvPr/>
        </p:nvSpPr>
        <p:spPr>
          <a:xfrm>
            <a:off x="2198520" y="2909880"/>
            <a:ext cx="1602000" cy="1601640"/>
          </a:xfrm>
          <a:prstGeom prst="ellipse">
            <a:avLst/>
          </a:prstGeom>
          <a:solidFill>
            <a:srgbClr val="ff5050">
              <a:alpha val="73000"/>
            </a:srgbClr>
          </a:solidFill>
          <a:ln w="46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_s7173"/>
          <p:cNvSpPr/>
          <p:nvPr/>
        </p:nvSpPr>
        <p:spPr>
          <a:xfrm>
            <a:off x="2451240" y="2349360"/>
            <a:ext cx="10951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_s7174"/>
          <p:cNvSpPr/>
          <p:nvPr/>
        </p:nvSpPr>
        <p:spPr>
          <a:xfrm>
            <a:off x="2589120" y="3051000"/>
            <a:ext cx="1602000" cy="1602000"/>
          </a:xfrm>
          <a:prstGeom prst="ellipse">
            <a:avLst/>
          </a:prstGeom>
          <a:solidFill>
            <a:srgbClr val="ff9900"/>
          </a:solidFill>
          <a:ln w="4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_s7175"/>
          <p:cNvSpPr/>
          <p:nvPr/>
        </p:nvSpPr>
        <p:spPr>
          <a:xfrm>
            <a:off x="3886200" y="257508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al 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_s7176"/>
          <p:cNvSpPr/>
          <p:nvPr/>
        </p:nvSpPr>
        <p:spPr>
          <a:xfrm>
            <a:off x="2798640" y="3411360"/>
            <a:ext cx="1602000" cy="1602000"/>
          </a:xfrm>
          <a:prstGeom prst="ellipse">
            <a:avLst/>
          </a:prstGeom>
          <a:solidFill>
            <a:srgbClr val="008000">
              <a:alpha val="84000"/>
            </a:srgbClr>
          </a:solidFill>
          <a:ln w="4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_s7177"/>
          <p:cNvSpPr/>
          <p:nvPr/>
        </p:nvSpPr>
        <p:spPr>
          <a:xfrm>
            <a:off x="4543560" y="3645000"/>
            <a:ext cx="10951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va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gree-Gran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_s7178"/>
          <p:cNvSpPr/>
          <p:nvPr/>
        </p:nvSpPr>
        <p:spPr>
          <a:xfrm>
            <a:off x="2727360" y="3821040"/>
            <a:ext cx="1601640" cy="1602000"/>
          </a:xfrm>
          <a:prstGeom prst="ellipse">
            <a:avLst/>
          </a:prstGeom>
          <a:solidFill>
            <a:srgbClr val="ffff00">
              <a:alpha val="82000"/>
            </a:srgbClr>
          </a:solidFill>
          <a:ln w="46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_s7179"/>
          <p:cNvSpPr/>
          <p:nvPr/>
        </p:nvSpPr>
        <p:spPr>
          <a:xfrm>
            <a:off x="4495680" y="493704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icip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amp;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l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_s7180"/>
          <p:cNvSpPr/>
          <p:nvPr/>
        </p:nvSpPr>
        <p:spPr>
          <a:xfrm>
            <a:off x="2408400" y="4089240"/>
            <a:ext cx="1601640" cy="1602000"/>
          </a:xfrm>
          <a:prstGeom prst="ellipse">
            <a:avLst/>
          </a:prstGeom>
          <a:solidFill>
            <a:srgbClr val="ff9900">
              <a:alpha val="85000"/>
            </a:srgbClr>
          </a:solidFill>
          <a:ln w="46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_s7181"/>
          <p:cNvSpPr/>
          <p:nvPr/>
        </p:nvSpPr>
        <p:spPr>
          <a:xfrm>
            <a:off x="3352680" y="585144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gul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_s7182"/>
          <p:cNvSpPr/>
          <p:nvPr/>
        </p:nvSpPr>
        <p:spPr>
          <a:xfrm>
            <a:off x="1992240" y="4089240"/>
            <a:ext cx="1602000" cy="1602000"/>
          </a:xfrm>
          <a:prstGeom prst="ellipse">
            <a:avLst/>
          </a:prstGeom>
          <a:solidFill>
            <a:srgbClr val="3366ff">
              <a:alpha val="91000"/>
            </a:srgbClr>
          </a:solidFill>
          <a:ln w="4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_s7183"/>
          <p:cNvSpPr/>
          <p:nvPr/>
        </p:nvSpPr>
        <p:spPr>
          <a:xfrm>
            <a:off x="1219320" y="5792760"/>
            <a:ext cx="124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stat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_s7184"/>
          <p:cNvSpPr/>
          <p:nvPr/>
        </p:nvSpPr>
        <p:spPr>
          <a:xfrm>
            <a:off x="1673280" y="3822840"/>
            <a:ext cx="1601640" cy="1601640"/>
          </a:xfrm>
          <a:prstGeom prst="ellipse">
            <a:avLst/>
          </a:prstGeom>
          <a:solidFill>
            <a:srgbClr val="339966"/>
          </a:solidFill>
          <a:ln w="46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_s7185"/>
          <p:cNvSpPr/>
          <p:nvPr/>
        </p:nvSpPr>
        <p:spPr>
          <a:xfrm>
            <a:off x="457200" y="493704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_s7186"/>
          <p:cNvSpPr/>
          <p:nvPr/>
        </p:nvSpPr>
        <p:spPr>
          <a:xfrm>
            <a:off x="1600200" y="3413160"/>
            <a:ext cx="1601640" cy="1601640"/>
          </a:xfrm>
          <a:prstGeom prst="ellipse">
            <a:avLst/>
          </a:prstGeom>
          <a:solidFill>
            <a:srgbClr val="ffff00">
              <a:alpha val="71000"/>
            </a:srgbClr>
          </a:solidFill>
          <a:ln w="46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_s7187"/>
          <p:cNvSpPr/>
          <p:nvPr/>
        </p:nvSpPr>
        <p:spPr>
          <a:xfrm>
            <a:off x="228600" y="3718080"/>
            <a:ext cx="10954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med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_s7188"/>
          <p:cNvSpPr/>
          <p:nvPr/>
        </p:nvSpPr>
        <p:spPr>
          <a:xfrm>
            <a:off x="1808280" y="3052800"/>
            <a:ext cx="1601640" cy="1601640"/>
          </a:xfrm>
          <a:prstGeom prst="ellipse">
            <a:avLst/>
          </a:prstGeom>
          <a:solidFill>
            <a:srgbClr val="009999">
              <a:alpha val="80000"/>
            </a:srgbClr>
          </a:solidFill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_s7189"/>
          <p:cNvSpPr/>
          <p:nvPr/>
        </p:nvSpPr>
        <p:spPr>
          <a:xfrm>
            <a:off x="1114560" y="2498760"/>
            <a:ext cx="10951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n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t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65280" y="38703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T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10280" y="20257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IH &amp; other government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58514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althcare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91520" y="41464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400" y="353880"/>
            <a:ext cx="89154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ch academic health center will create a home for clinical and translational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6172200" y="4098600"/>
            <a:ext cx="1125360" cy="43164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cda8c"/>
          </a:solidFill>
          <a:ln w="9360">
            <a:solidFill>
              <a:srgbClr val="0cda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27600">
            <a:off x="5943600" y="2650680"/>
            <a:ext cx="1125360" cy="43200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cda8c"/>
          </a:solidFill>
          <a:ln w="9360">
            <a:solidFill>
              <a:srgbClr val="0cda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2628200">
            <a:off x="5943240" y="5546520"/>
            <a:ext cx="1125360" cy="431640"/>
          </a:xfrm>
          <a:custGeom>
            <a:avLst/>
            <a:gdLst>
              <a:gd name="textAreaLeft" fmla="*/ 175680 w 1125360"/>
              <a:gd name="textAreaRight" fmla="*/ 984960 w 1125360"/>
              <a:gd name="textAreaTop" fmla="*/ 108000 h 431640"/>
              <a:gd name="textAreaBottom" fmla="*/ 324000 h 431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cda8c"/>
          </a:solidFill>
          <a:ln w="9360">
            <a:solidFill>
              <a:srgbClr val="0cda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95400"/>
            <a:ext cx="91440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ing a National CTSA Consort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1760" y="2622600"/>
            <a:ext cx="3640320" cy="4179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81200" y="581040"/>
            <a:ext cx="4256280" cy="2411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389560" y="2622600"/>
            <a:ext cx="3640320" cy="41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55280" y="1906560"/>
            <a:ext cx="7667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Data managemen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develop a comprehensive controlled information system infrastructure to capture and manage clinical and translational research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Data integration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integrate clinical and translational research data with data and knowledge from external public database resourc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Data analysis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support clinical and translational research data analysis by providing state-of-the-art software analytical too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- to provide training and support for CRIS u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636120"/>
            <a:ext cx="857088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Clinical Research Information System - utC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132000" y="2971800"/>
            <a:ext cx="6098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5120" y="3809880"/>
            <a:ext cx="65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3216240" y="4571640"/>
            <a:ext cx="51768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114720" y="4952880"/>
            <a:ext cx="923760" cy="79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25600" y="38862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338120" y="571500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384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gh Level Design 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51436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rnal Collabo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876920"/>
            <a:ext cx="1218960" cy="12952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295280"/>
              <a:gd name="textAreaBottom" fmla="*/ 1235880 h 1295280"/>
            </a:gdLst>
            <a:ahLst/>
            <a:rect l="textAreaLeft" t="textAreaTop" r="textAreaRight" b="textAreaBottom"/>
            <a:pathLst>
              <a:path w="21600" h="22952">
                <a:moveTo>
                  <a:pt x="3600" y="0"/>
                </a:moveTo>
                <a:arcTo wR="3600" hR="3600" stAng="16200000" swAng="-5400000"/>
                <a:lnTo>
                  <a:pt x="0" y="19352"/>
                </a:lnTo>
                <a:arcTo wR="3600" hR="3600" stAng="10800000" swAng="-5400000"/>
                <a:lnTo>
                  <a:pt x="18000" y="229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ternal Bioinforma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ata Sou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rez Ge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Unipr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dbSN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 GEO/Arr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62720" y="3429000"/>
            <a:ext cx="1371600" cy="1219320"/>
          </a:xfrm>
          <a:prstGeom prst="rect">
            <a:avLst/>
          </a:prstGeom>
          <a:gradFill rotWithShape="0">
            <a:gsLst>
              <a:gs pos="0">
                <a:srgbClr val="00cc00">
                  <a:alpha val="10196"/>
                </a:srgbClr>
              </a:gs>
              <a:gs pos="50000">
                <a:srgbClr val="005e00">
                  <a:alpha val="20000"/>
                </a:srgbClr>
              </a:gs>
              <a:gs pos="100000">
                <a:srgbClr val="00cc00">
                  <a:alpha val="10196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37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27520" y="3505320"/>
            <a:ext cx="1243080" cy="306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 M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095880" y="3417480"/>
            <a:ext cx="306360" cy="124308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por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4343400"/>
            <a:ext cx="11430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 F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10200" y="3962520"/>
            <a:ext cx="65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L7 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581280"/>
            <a:ext cx="47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827840" y="2895480"/>
            <a:ext cx="881280" cy="5446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32800" y="3495600"/>
            <a:ext cx="127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Web Commun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581960" y="10746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UTSW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81960" y="4724280"/>
            <a:ext cx="1371600" cy="1295640"/>
          </a:xfrm>
          <a:prstGeom prst="ellipse">
            <a:avLst/>
          </a:prstGeom>
          <a:solidFill>
            <a:srgbClr val="bbe0e3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47840" y="3505320"/>
            <a:ext cx="91440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inical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71880" y="5334120"/>
            <a:ext cx="1066680" cy="8380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4419720"/>
            <a:ext cx="1143000" cy="838080"/>
          </a:xfrm>
          <a:prstGeom prst="can">
            <a:avLst>
              <a:gd name="adj" fmla="val 26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eriment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484520" y="2438280"/>
            <a:ext cx="0" cy="6415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339440" y="411840"/>
            <a:ext cx="290520" cy="14475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posal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amp; Track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409280" y="1332720"/>
            <a:ext cx="15264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ial Recrui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6200000">
            <a:off x="4340160" y="791640"/>
            <a:ext cx="29052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toc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4340160" y="1553760"/>
            <a:ext cx="29052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4340160" y="1096560"/>
            <a:ext cx="290520" cy="144936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F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71920" y="914400"/>
            <a:ext cx="1828800" cy="1523880"/>
          </a:xfrm>
          <a:prstGeom prst="roundRect">
            <a:avLst>
              <a:gd name="adj" fmla="val 16667"/>
            </a:avLst>
          </a:prstGeom>
          <a:solidFill>
            <a:srgbClr val="808080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3048120"/>
            <a:ext cx="1447560" cy="1981080"/>
          </a:xfrm>
          <a:prstGeom prst="can">
            <a:avLst>
              <a:gd name="adj" fmla="val 207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nical Research Data Ware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tCR-D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33520"/>
            <a:ext cx="1600200" cy="1600200"/>
          </a:xfrm>
          <a:prstGeom prst="ellipse">
            <a:avLst/>
          </a:prstGeom>
          <a:solidFill>
            <a:srgbClr val="bbe0e3">
              <a:alpha val="2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47840" y="2666880"/>
            <a:ext cx="914400" cy="68580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T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67760" y="411480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688000" y="1433520"/>
            <a:ext cx="152388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68040" y="42670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3733920"/>
            <a:ext cx="76176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1480" y="38862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6107040" y="3798360"/>
            <a:ext cx="306360" cy="1243080"/>
          </a:xfrm>
          <a:prstGeom prst="rect">
            <a:avLst/>
          </a:prstGeom>
          <a:solidFill>
            <a:srgbClr val="ccffff">
              <a:alpha val="20000"/>
            </a:srgbClr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iostatist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24960" y="151776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9240" y="236232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34680" y="3352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29600" y="2209680"/>
            <a:ext cx="0" cy="53352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1143000"/>
            <a:ext cx="1371600" cy="3124080"/>
          </a:xfrm>
          <a:custGeom>
            <a:avLst/>
            <a:gdLst>
              <a:gd name="textAreaLeft" fmla="*/ 66960 w 1371600"/>
              <a:gd name="textAreaRight" fmla="*/ 1304640 w 1371600"/>
              <a:gd name="textAreaTop" fmla="*/ 66960 h 3124080"/>
              <a:gd name="textAreaBottom" fmla="*/ 3057120 h 3124080"/>
            </a:gdLst>
            <a:ahLst/>
            <a:rect l="textAreaLeft" t="textAreaTop" r="textAreaRight" b="textAreaBottom"/>
            <a:pathLst>
              <a:path w="21600" h="49191">
                <a:moveTo>
                  <a:pt x="3600" y="0"/>
                </a:moveTo>
                <a:arcTo wR="3600" hR="3600" stAng="16200000" swAng="-5400000"/>
                <a:lnTo>
                  <a:pt x="0" y="45591"/>
                </a:lnTo>
                <a:arcTo wR="3600" hR="3600" stAng="10800000" swAng="-5400000"/>
                <a:lnTo>
                  <a:pt x="18000" y="491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77920" y="1295280"/>
            <a:ext cx="1120680" cy="2813040"/>
            <a:chOff x="277920" y="1295280"/>
            <a:chExt cx="1120680" cy="2813040"/>
          </a:xfrm>
        </p:grpSpPr>
        <p:sp>
          <p:nvSpPr>
            <p:cNvPr id="144" name=""/>
            <p:cNvSpPr/>
            <p:nvPr/>
          </p:nvSpPr>
          <p:spPr>
            <a:xfrm>
              <a:off x="277920" y="2514600"/>
              <a:ext cx="11206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tient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gistr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62640" y="257940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24920" y="2708280"/>
              <a:ext cx="186480" cy="19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49480" y="264312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7920" y="1904760"/>
              <a:ext cx="1120680" cy="45108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ssu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Bank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62640" y="196992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4920" y="209844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49480" y="203364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7920" y="1295280"/>
              <a:ext cx="11206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vat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962640" y="1360440"/>
              <a:ext cx="186480" cy="19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24920" y="148896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49480" y="142380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7920" y="3124080"/>
              <a:ext cx="1120680" cy="37476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62640" y="3178080"/>
              <a:ext cx="186480" cy="16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24920" y="3284280"/>
              <a:ext cx="186480" cy="1605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49480" y="3230280"/>
              <a:ext cx="186480" cy="162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7920" y="3657600"/>
              <a:ext cx="1120680" cy="450720"/>
            </a:xfrm>
            <a:prstGeom prst="roundRect">
              <a:avLst>
                <a:gd name="adj" fmla="val 16667"/>
              </a:avLst>
            </a:prstGeom>
            <a:solidFill>
              <a:srgbClr val="bbe0e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inical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62640" y="3722400"/>
              <a:ext cx="186480" cy="192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24920" y="3851280"/>
              <a:ext cx="186480" cy="191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49480" y="3786120"/>
              <a:ext cx="186480" cy="1936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004646"/>
                </a:gs>
                <a:gs pos="50000">
                  <a:srgbClr val="009999">
                    <a:alpha val="50196"/>
                  </a:srgbClr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"/>
          <p:cNvSpPr/>
          <p:nvPr/>
        </p:nvSpPr>
        <p:spPr>
          <a:xfrm flipV="1">
            <a:off x="3143160" y="2367000"/>
            <a:ext cx="471600" cy="325440"/>
          </a:xfrm>
          <a:prstGeom prst="line">
            <a:avLst/>
          </a:prstGeom>
          <a:ln w="38160">
            <a:solidFill>
              <a:srgbClr val="0099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urat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apeutic drug as a design variable vs. medical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NA as a therapeutic agent vs. analysis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oper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ambiguous data exchange between research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ive data exchange between software 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of study-specific 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le changes throughout and between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mantic queries (e.g. patients with autoimmune dise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-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dies with common features (e.g. all studies where flu vaccine was evaluated as a conditional var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660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to build upon and extend, or map to, existing and emerging data standards (e.g. HL7, CDISC, ICD, UMLS, Epoch, RCT Schema, NCI Thesaurus, SNOMED-CT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gnize the difference between Health IT and Research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wide variety of different clinical and translational study types - reduce complexity by modeling comm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needs of multiple stakeholders - different uses of sam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should be easy to implement 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need to be easily and logically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 clinical research data us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1T09:50:08Z</dcterms:created>
  <dc:creator>Pathology</dc:creator>
  <dc:description/>
  <dc:language>en-US</dc:language>
  <cp:lastModifiedBy>Pathology</cp:lastModifiedBy>
  <dcterms:modified xsi:type="dcterms:W3CDTF">2007-09-25T17:29:34Z</dcterms:modified>
  <cp:revision>40</cp:revision>
  <dc:subject/>
  <dc:title>CTO - Clinical Trials/Research in the Ontology of Biomedical Investigation</dc:title>
</cp:coreProperties>
</file>